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816B-E355-4F51-9AE4-504AFE0F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0837-ACEB-40DA-9949-1226BA55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33F2-4D30-4EE2-ADB1-1F69E014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71D-ACA8-4B96-8EE7-E4A03F29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B1BE-464D-4A89-BCBD-400F5A8C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91D6-EC0C-4A2F-A387-D918B752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6256-93A8-4CB4-8837-E178F2F3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30F8-A717-47FC-A5F2-C0DDD0A1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F9B2-B36C-4B7E-AE4A-1B101A46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EEF3-CBD2-4E8F-9A62-5D9F759A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CE02-72E9-4211-98EA-4751A564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F52B-9768-4CB6-BE02-30BDF4F4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8E14-FCD9-4A1D-9094-E03D04F6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4296-2477-4E2F-838E-3337978E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74AF-FD88-42D1-BA34-4706D11A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6E06-183E-4B0A-A5A2-BC98408F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E63D-65DF-4F04-BF22-0D132707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F809-32C4-4202-B6DB-216DBBF3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EB9C-70FE-45CC-AE3C-A7A47953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000D-EF02-4EDA-869E-50D586B2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6C91-F2B2-4485-BA91-432FD295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C467-5E6D-4CEB-A8DE-89E4AA9E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38B5-5EF8-459F-8857-DFC91BC6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ADD6-B2C2-4E43-8524-8004E7C0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07EC-B5D4-400A-8C7F-0C4DC33EC86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AEB7-D7DD-48BE-9104-91137B35611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Give Us A King”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he United Kingdom, Part 2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rter 5, Lesson 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 Kings 3-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ges 114-11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view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vid’s last charge to Solom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lomon “cleaned” house of his father’s enem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onijah killed for asking for one of David’s wiv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biathar, the priest, demoted and restricted to the city of Anatho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ab and Shimei kill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Treaty With Egypt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1 Kings 3:1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lomon made trea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ually resulted in him marrying a foreign wife – not wise to 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d alliances for strength – not Go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lomon/the Pharaoh seal the de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lomon would marry his daught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haraoh would give them Gezer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1 Kings 9:16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cial” house built for her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2 Chron. 8:11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zoom dir="in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olomon Asked For Wisdom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1 Kings 3:2-15; 2 Chron. 1:1-13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rael offered sacrifices in various high pla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lomon offered sacrifices at Gibe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d asked Solomon what he want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lomon’s reques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ave thanks for several thing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ked for wisdom to guide the peop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nowledge of right and wro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lomon granted wisdo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ich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zoom dir="in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wo Women And A Baby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1 Kings 3:16-28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o prostitutes came before Solom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claimed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e gave birth to a chi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id other woman had a chi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so claimed that the other woman smothered her own chi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ther woman swapped the boy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 woman denied the charg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lomon, in his wisdom, found out to whom the child really belong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ople were in awe of his wisd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zoom dir="in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534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olomon Organizes His Kingdom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1 Kings 4:1-28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vided the kingdom into 12 distri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ch district had a prince in char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ch district provided food for one month of the year for the k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rrounding kings paid tribu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sperity and happiness abound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ace in the 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ople were “eating, drinking and making merry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s kingdom was lar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zoom dir="in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5530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olomon’s Wisdom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1 Kings 4:29-34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lomon’s wisdom far exceeded the wise men of his 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lomon’s fam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rote 3,000 proverbs (wrote most of the book of Proverb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,005 song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rot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ng of Solom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cclesiast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d a couple of psal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zoom dir="in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4:14:44Z</dcterms:created>
  <dc:creator>Frank D Vines</dc:creator>
  <dc:description/>
  <dc:language>en-US</dc:language>
  <cp:lastModifiedBy>Frank D Vines</cp:lastModifiedBy>
  <dcterms:modified xsi:type="dcterms:W3CDTF">2005-08-10T22:50:08Z</dcterms:modified>
  <cp:revision>11</cp:revision>
  <dc:subject/>
  <dc:title>“Give Us A King” The United Kingdom, Part 2</dc:title>
</cp:coreProperties>
</file>